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FD27-75C4-4377-B8F7-FF25257B0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4184-5D8A-497B-9DF0-5E142C99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8065E-1095-4AF4-9099-9EB71F66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ADC3D-2CB7-4D58-84AD-4A5EC0E8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6E2B0-88A3-4245-935B-69EED896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FF61A-6905-4456-A00B-918E6E97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7DFF4-242B-4E1A-A789-6D7D84A2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A698C-A72E-489C-86D7-D6E23368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3DCF5-55F2-493D-BB89-4D67FE4D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28BAD-AD77-4629-8F7F-1F85BE8B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30B7A-1AB7-49D2-A71D-AE3F4C631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CC273B-6D30-4B44-9636-8F07D7A02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6FD4-0EE9-4352-A1C9-C433035C2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FFE92-6626-4347-8432-834D63CC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84A0B-9B33-4B17-A50B-98C20BA1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3B85B-F701-4624-AC8A-52750F19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A5D97-7F91-4880-AD4A-DB4761CA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DAE07-F8AB-49AC-B607-460E983B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5501C-C98B-4F09-A106-A6618EEC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24D5B-17BD-4059-8918-F7C4BD91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E13EF3-4E0D-44EC-9718-A90C0229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D2FA9-FE7D-4574-A8EA-B407D032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33112-8EE8-4605-886E-09D5373FA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20E7-8B77-4786-9865-EB769E46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AA77F-42CF-43F1-ACBE-770761999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71B87-7FDD-4D4A-B64D-FA0A1521D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F69CD-A5E9-46B7-94AA-53B4CA7F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E4E30-EDD6-43A6-8066-09CDE4F1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3A489-AB2C-4385-814B-8A8F2A12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FF736-A0CA-4659-A38F-683E6AE1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A89B1-E4B2-44D9-BC61-084D812D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3EBA0-64BF-4170-B0BB-4EB24E12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7503D-83D6-4833-9C33-E4CBAF58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A7798-DC26-4FB6-AD73-EC76A088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6246-4DF1-407B-8527-85CB47477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D6D13-D7FC-44B5-B08D-E016D5D1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35421-68F8-4E7E-B0FC-FD5F38162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EFC65-41D7-4B4C-AF42-B1F2AC041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72C9C2-2396-49CC-8FD3-40C0DC44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7D92AA-7FF3-48CF-BB50-AE7D4100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70881-B487-4C21-A68E-E6E86BDF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B1A65-9A02-47BB-82A5-2D627D01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1115B2-D245-4BBA-9CA5-7F6C4C42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9C08D-A204-4ECB-9D66-A5A05FE1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EB21B-C1BC-41C7-B8DD-149D4C4E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1357-7FC7-4CA5-84AA-670FCA31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24B28-F2D9-435D-9743-3BC967ED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9BD71-C9BE-4AA5-99B4-1A0DD151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4DC3FD-8EA0-4034-BFEA-55F1682B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A32623-63A6-4D42-BC31-FC2C2678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F828C-240F-4A58-AA53-C34B32515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2A45D0-17DE-42EC-88FF-0ABEF1E95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5E7F9A-6A9D-45AC-B11E-9F78130F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2E2A60-47B1-4B3B-8D0A-AC91288F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EBB517-1608-42FC-AE31-6CDB95F5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7A5011-FE5A-4F07-B857-E5DCD744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DC55-D2EA-43C4-A51C-73E5BCE8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CE779F-4CFA-47B5-B37C-8AC17E0E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FC5C1B-1AD0-4DE5-BCC9-31BCE1CC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B5661C-B7FC-44E4-AA4D-498CCCCF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F073B1-5BBD-4690-9811-6A1DF13B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9661C8-6439-4F95-8A99-A093D3F1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19632D-5189-412F-A2D1-87CF2190E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70938F-F40F-4B4F-AF7E-E82D30EE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D0EE91-7E11-475C-B294-82C218259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3B40B7-58D9-4263-9F92-96673B98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54D82B-18BC-4F5E-B458-40216DA3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F1F5-E013-4F01-A045-FA39F771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211249-38CD-49FF-A2CA-F9347214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55BD50-13B5-49A3-A73F-E648E903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CEDB7E-69C6-415E-AF7E-1B4E1E48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D9D058-2ABA-466E-9FC8-87326401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ACBD5D-BF63-48AA-8AB6-AD4387F1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61518F-C826-4E08-85A3-62C0EB69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CCEB74-8937-4352-BF76-9770C1CB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802E71-2559-481A-9355-CC0203C0A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AA6661-BAB8-4AA7-AD54-45237D98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37DD9B-2E49-4ED9-9A9B-665C6689C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8241-55DF-4429-AC83-CC0520F0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A270DA-A3F4-434C-AD6E-08ECCF72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8757A1-20AC-4621-8221-AA395303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A9391E-AA99-4DE1-A5DB-6C439EFD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257929-BCB1-4CAD-97FF-76E1A090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3D4D98-10DA-4841-A544-2B7A2D2B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4A43D1-7999-4B0E-9F74-95468ECD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12C68A-57A0-4BF3-BB39-C8C7E826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7AF5E8-C671-4C7C-9D06-035711AF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DD1C97-0F72-4636-B41B-F4FEB782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497D34-5700-429C-89CF-A8BA89B0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1061-D822-4B26-93D4-5C561651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0E5803-84CE-4732-A36D-809716363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093004-2F7B-4015-B04B-1E8C6FB23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5E1ECE-04D3-4FB4-83B4-5173DD55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024542-153C-44FF-89F7-22B2EFCE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FA3F23-AB16-4D5F-A848-DED00862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CA0450-BE8D-494D-B299-8150B052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782250-7A65-4345-BE61-1B79AF1F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3896CF-6E98-4D82-834C-6B692843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67D32B-40DD-4656-874E-919B63ED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22C480-967D-437B-8D9E-A3669C17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5647-8368-418E-8DE6-923DD954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F6B38B-528C-498A-A8A7-3B67CF7C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4C25D0-9271-4050-8B65-E4230952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49496B-1D58-4661-BD8A-8CD080A6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CDBD17-BFF5-48F0-A65E-10BAE67A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EADBE0-13C6-4E4F-83E0-645840B4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F1DB4D-4FF3-49E2-96A9-5E0ECDEA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AB5B65-F0E2-47AB-B378-0D016A99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C30EC5-F3B5-4F9F-9FB9-D99A84EF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0FB4E3-B341-40FE-BA86-06159FD1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1C170D-7401-48D6-9BA9-13178CE5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C452-0B2D-40BA-B41A-FB0F7612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EC19-3C92-49E4-8B31-8C09752F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63F87D-1235-418A-9389-65E9BAA4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132674-B5BD-4B17-8FED-3D2416AB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D74522-CBAE-4645-8CC5-93300959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B52C1A-DE67-45CF-AA0A-D17FA0D2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E6B38C-F036-4E56-BA16-7044E6F89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ED431B-C228-42D8-877B-2B0C3436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53004D-9927-47FE-B309-D65EA7BA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423EDD-2BC1-48AB-BBF2-CC29CBBA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DFC984-0680-4F41-90EE-2DC02539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62FB16-C2B3-4F60-8927-0FA49903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6C5C-5BC9-4300-859E-49DFF648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D105B7-0468-488E-9BB6-3221FB98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7B5F6B-8076-4BEA-8F27-2DCBC90A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4E46A4-D189-4458-946C-FEE8850A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D25AAD-1FA2-4B8D-8724-C047DCC2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95340B-7353-44CF-9110-EB0D5FF6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28E6EE-4638-4303-84FE-67764FD0E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2D5F7F-E95E-4062-87E6-4E0B911C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FF72E6-577B-4A84-A11C-49DCF92C3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27BA48-CCBF-4823-9761-6E6BDD80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F03772-CFFF-4427-9FAA-F8AD3902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6AEA-7C60-45F6-A5C9-09F544C0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73C1E3-AFA9-4777-A24D-961E1A78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F1EE74-6A98-4F30-B05C-C81EFE98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7C767E-2BE4-4222-B438-F69532F7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59D991-B393-4B88-9C23-FE4B8DBE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82D0C7-EA54-4F8F-8159-A67FB596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B3A0B4-2AFB-476B-BE0E-0C441B6B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9B8780-8D71-464C-81D7-7160949E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BAB51F-8D51-4D63-99A0-CBB63060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123169-FE0E-404F-9BFB-B0E37A311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C7232D-AB73-401C-B768-2266F830D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5B0E-799B-4D55-A7CD-5900C6872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C143CA-A176-4CCF-BC5B-34B86A3C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4E57D5-B0BC-4C6B-A880-4C1C3313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4AEB86-13D0-40C6-A018-4A22A092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6F5C9B-ADB2-4347-9C25-38F67658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6318E8-F5CD-4759-812E-5A284A9B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99575C-0A20-4359-A7F4-8AF9B8AE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A24270-2C84-4680-9BC2-85BA3EF6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9CCF64-C2E9-49A9-A633-AADB097D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F05537-2144-4A60-8FB0-C01C514B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5D2466-AA0C-426F-AB99-CF730AFB5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4706-3C36-4401-AF5C-2AEE163D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BA2A2C-A981-40C6-8EE0-6F7A0697B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4A1A62-2E42-4FAB-A084-11926AD71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BB0F82-792E-46C6-9687-C15B47D7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E0CB64-D9F0-4026-850B-3ABD24FB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72BF62-D483-4701-BD1C-4DC6782B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E399A1-B804-4EFF-99AC-8AB96751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D28D43-5E2F-4CAE-8669-87D64331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B253E5-ADAB-4DF2-9548-AF79EB44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898A1C-DB11-4A10-B975-77132048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8C3DB9-7849-4866-BA1E-71BB2F61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550AB-351A-42D0-9C99-B76A48B7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12DE92-2350-4F7C-8DBF-22C9F6F1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36438C-219E-4EBE-80BE-689F36BA2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CE78F7-32D1-42BA-BE26-AB412F673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E6AF86-1357-4894-8DC2-E1D62753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00A9B0-020A-4923-B41E-1B9D1156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226014-FB35-4DCC-9B7B-DA046E5A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B305F5-D6D8-4372-A688-FE1E86E2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56A136-4503-472F-9EFF-923407B4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AD572B-3BB4-4EF9-920D-330EF077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6F8B4C-E9BC-4E17-A517-E72F5180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16164-D918-44D3-95FA-DC84C047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A0E766-AEC5-4952-8359-E6EA86A1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679497-B68A-4C00-AF94-BC683678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175A7B-57C6-42F0-A6ED-BB18C0C1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DD3A56-F750-4616-A5EE-8904AE125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37BA81-A321-4D19-A22A-05941D13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90612C-51B7-4C3F-A1DF-137AFE3DC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EEAA44-2599-439C-A736-EE0271B5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6EE82E-78D4-44EA-B1D5-4FB0C989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CC32F8-DAD3-4324-BBC0-B880A722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DDA2A9-B64E-4C15-8380-9C491797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53C45-44BA-4C90-9393-06810806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298548-C1FB-4A9E-B42E-A59D4C86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0EA4F1-FEA8-4867-BF4D-5D94D8ED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6B2C19-5E34-49B0-8734-1959F661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111B45-9E5A-4F68-952B-BCCC438A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883DF4-147F-40C2-9796-47908D6C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698FCD-B126-4EC1-8E6C-DE08D0A5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FCA7FC-62FB-49E5-A6CB-43F0B0F1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D04A81-D910-4864-9D3C-B65B5996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A73990-3229-4BC2-BEEA-EFB6D9D1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045059-3780-415F-8DD8-5F2100AF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0A69F-6D4B-4448-AED4-387B4D12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144AA7-2BFE-4671-BC35-A0D550AD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1249A2-6A60-42EC-B6B6-4012CA7D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00B842-D815-48E6-AF01-852A4AE5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22478C5-E9F9-4907-8699-3AF23D86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1D7BC4-1A34-469B-8D94-F3072664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DCAF57-6978-4064-9AE9-9F91B936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553848-57DF-4FE2-8DA3-00488334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9C8FE4-C887-4834-94CC-FBBA48F78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638C5B-0659-4877-89C2-7E0CAA6DF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2713CA-4DEF-4B18-AC67-060DB5F5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4EC2F-C7DE-49F9-9308-B41C3F3A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9855A1-993D-4FAF-A2A8-68F5E6E9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954675-3D7C-4FA4-BD73-9126EA4E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E2C040-55C1-42D5-B86A-33B801DA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3FF9DA3-DB63-4A73-AD7C-D52AAB55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B0C0FF-18E1-4FBE-A1BA-DD3EA944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9AE5CD-AD65-46F9-9BCE-1083FF07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A3958C8-4C64-46C8-99DC-C00EA079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9C8B1D-1E08-4BA0-8375-9FAE2F55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51E08E-A45C-4E66-9B99-5F7B5821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09A087-1D0F-469B-8F66-8CC80A781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A654-1161-47BF-A4D4-0899272F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FB182-9D06-480E-AB79-2945DFD7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2091B9-02DD-41FD-9125-A6408FD1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BA1B7E-ECF0-4CD2-B396-F68793A8D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EA9765-C9DE-40B6-90EB-3F8DAD98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37F753-F854-48B7-B0AC-E453E5CB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1093E2-9FF0-4029-BE86-C7848B9A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E9342BD-F9DF-4F8E-81E7-F98808F0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00B4BA-0C59-4375-8D1B-533FE28A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E018E3F-C48D-4227-953D-7A3147E6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75D9345-8A5C-41EB-814C-6A3A2CF4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16C3DC-60D8-48DA-BFC4-5FEDA838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974B9-2B02-474D-A5AC-008D1385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CCDC809-0EF2-411D-BC58-AC2EAC39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6156E0-CDCB-4F11-B095-D5B0F460D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C8C55DE-8783-4EF6-AF40-33F9427B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E4F651-6C0E-4129-BBFB-87A8771D4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954544-3317-4AA0-8959-6DE33B00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66B141-2358-4B10-822B-A4CCA7B3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97FE71-155A-4FB9-8CD2-2D627080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382E328-B3D1-4048-BD54-A0D4DBD0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83228D-56D6-417B-80FA-1B135863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9A6FD9D-4D0D-43C9-8609-147B9B4A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50A25-44E7-4705-9A28-C25841FD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2CF8223-EED2-43D9-A8C4-753FD7F2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9BF670-B057-4FC5-B51B-FC6265E4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CD4AA84-56BD-422D-9941-FF31E2B5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7E6741-DB26-40E0-8E5D-A6817032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07B474-7C38-4EA9-9CB4-6B0A0358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E577FA-9CBA-4788-A607-78BB91CBB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2A61130-839D-49B5-9F5C-CEDB826C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C00FD7-B294-46A6-A927-49D9361D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D3A3470-67B2-4643-B732-2DB788AB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CB88E40-70E5-4993-97C6-3326979E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2EEFF-C0B8-4417-9500-60C60575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654F258-2103-4D96-8E6A-76D6B430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DC808D-D5E7-47CA-AE77-6FC02B91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2DE581-0449-4036-9B34-6FF74DE3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FF0B64-C51A-4426-A977-837955AA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31605F-759B-4D7A-8BB0-508D6BA2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0BF33A-73B3-4A69-B05F-BFE15732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094DBC3-3859-4EAE-B58D-1F3B8474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07983B4-C453-445D-BBFA-9782311C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01B3D7-2B10-466E-91B6-2FB4ADD5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E904DE8-0F5D-4062-85DB-039BC5B9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80E5A-451B-4392-A61B-8B6FF1E2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1113BE8-F808-4096-A602-12F9C4A7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29DB799-FFF7-442A-97C3-E35F4C55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D8A5DFB-1C34-4202-8E8F-3DA055D4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92BDCE0-4382-41C7-9BD9-784FA5F1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9B225F5-F93A-4174-897E-A75A8F74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9C7D569-AC8D-493D-99D8-B831FBD5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B9FCE8B-D5FB-491D-9BCD-9F676EB8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22B0853-864C-43D9-A201-518E65E6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4D5429-A73B-4517-B125-DA0F3E69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F9FAE3-FEC0-41CC-A3CF-3080830D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BDD10-F57F-4527-9D7B-AD447243D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836D6B-E1E0-464E-AB65-0D24F7DC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70146B1-AA15-4C83-BE13-FDBE52F2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350C74B-787F-4C92-8E09-A9C1E1CC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A8EF43A-A7C3-4DBE-B79D-F7FC9503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091E72D-C95D-4F62-AA3C-00C797FA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EED3443-6846-491B-BBFD-FF2F3771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CB9893-E1A3-41AC-B2E9-E240A165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D13899F-078E-4C07-BCD1-E1646130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65E6FF7-7940-42E5-A7A6-D5E4DD4D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11FBF08-D2A1-481D-B4EE-F57D72B4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26A47-A2A1-4364-B2FB-D07784CA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0CB8DB6-E99F-49FB-AF69-15366C34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32B7B33-6D85-4642-98AC-BC9FE65D9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43342B-F61F-4E9F-9F26-E88A0F84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D1FCACE-E8B2-4489-864B-EFF3AC18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0787F74-8241-47D9-853A-8FF968EE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6EE6887-B24C-4B87-AE66-B6F1590F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25A7117-6DB8-4C0D-B701-778CEE2C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2228842-D6C7-4A58-A647-DDC20C70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184A667-6FB8-487A-A053-4BABC355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BCC331C-CA46-4815-8CAB-F16D874D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E494D-A062-425A-881F-A2813DC0D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FC4F055-7430-4114-9476-618C2927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86FEDB0-1590-4384-8347-ADE8551F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F07B748-0911-4A85-BEB9-93225943B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8FE71-C567-48EA-98DD-51B0FF60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C32D3-8306-4AE6-9B0D-706E6094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F8BE-D95F-4D6E-9D85-E715CB6F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1E98F-3232-4817-ACA8-7A62AE51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7CD99-47EC-4052-BF6E-375D28F5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DA635-7570-493A-AD99-9F8DC987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774F3-F5A6-456D-861D-2C3E43E5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D3C3C-A2ED-45A0-9E7A-390B07DE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CACA0-5D59-4A13-A81D-5FFF2F9A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3B6EC-B623-43FB-A9CC-33BA6278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C82D8-4010-446E-B1FE-42AAC4113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EFFC1-C4F6-4DD2-979F-7755E73FA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B6189-DC88-4940-A089-884DBB3C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32EB-C47B-4060-89EF-C3F4FE9B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AF99A-1D66-4ABF-8304-2AE05240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C1598-B49D-43C7-9ADE-4077D44A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0B5A7-0E7A-4131-A3DD-57D04612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7246B-E299-4D0F-ADBC-6E10EB10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A035E-1276-44C6-945C-5798906C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80732-DC82-4C14-944F-71A6E14B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AF4C3-DB10-4BC9-8F81-98BFDFF4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217ED-51E6-4484-BC44-0B09AA62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C93EB-7B16-43BC-B038-04A2B1AF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969F1-2F3A-44BE-B33F-4822EE2BF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12C9-1DAD-4AF4-8AC5-10A0D60F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0E00A-2FC5-432D-8368-3BA87669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976C7-6880-4599-A658-09EB1A198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C4FF6-506B-4F4E-9D42-AC822C9C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14622-4F0F-4DD6-A13C-CE0DB5A4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BA467-C3B2-4D97-B1B5-F970B21D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6ECB6-6704-4455-9237-A8EC7BB4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12E49-1026-4EB6-98A9-DB45F438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B5D63-AF72-4CD8-8B37-751BD393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79BB5-FC1D-4DE4-B2E9-F1E04E51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0BEE0-4449-404C-84E2-C21C8B5C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24BE-BEDF-4271-89C1-75976BB5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A9863-6FE9-45C0-A876-1E21C665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02786-3866-466F-8A23-B2D2EF3E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930E2-2BCA-4AD4-BA22-3933A381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8911F-513F-4456-8947-F5147F343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3A9A1-4086-4665-983F-02BF5E51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281BE-28CE-4E0B-B191-DAA8EECD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2B222-22F3-4921-90E1-44A85A35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FAD28-40CF-49F5-947B-9D50EDFD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A8CB5-A42D-4645-93FB-6A360012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863CE-D303-4E31-82B2-4587A991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5B2B-26E1-47E3-9CA8-D35269DB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2C7A8-81A1-44B6-B2FF-02F63256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3D326-EE55-46DF-8E92-01FBCAE3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C520C-E266-4685-AC83-506D8249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4260E-DD67-4ADD-B049-83B73CF1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D48AB-FECB-49E7-98D1-B922258F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8F9EC-FEA7-4521-8BC8-38A93730F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36CB8-59B3-49D5-814D-365D95EE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F7FDD-A1DE-4857-8421-E51C8DE0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BA6EB-DFE1-41C7-BBC7-5755CEC7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FAD58-FE01-48A4-8B52-43FE5D42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620A-5B82-4EA1-9B70-BA2DC5BB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E012F-304A-4192-86DA-4E2BDC2B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0BCDA-0750-4597-95F2-84310D03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8A5A8-57FC-4B3E-B7AC-CC416C44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37A77-5184-4C4A-9121-3AEB548C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7096D-2341-45E0-9202-C20857BC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BA107-6401-43AC-8CD4-9166C052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A85BD-0C04-4726-9D0F-E3C2D3F8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6071A-B44C-4DCF-A35C-664730E94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F5F33-C611-4D62-B67A-B6541EEB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126E1-AA99-40A1-B51B-2820AE18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D8D9-22D9-47D4-96C9-BB0619B4A7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4610-83D2-4ACC-8469-ADDF44E942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0723-70D0-4509-B056-FFDD2CE504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60D8-6B89-4180-9AD4-31D66634D2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E67F-D1AF-463A-9E92-0DA39F4691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D6C4-3112-42FB-8BF1-F3868B133B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B305-52E4-4804-A7E9-E46820B650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F85F-03E0-4692-8450-A303171995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C157-5D48-4F64-8AC9-9F71D8F408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960D-628D-4ED5-BC20-B70CAD66E9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0045-A186-4F78-A99B-DAD99ACF89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71C7-F416-444A-9DB6-EF28F6BB9B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0C29-C420-4639-B066-164DD16295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75FA-1E82-4B68-81B0-B2B4A831FF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F6EE-9307-4347-B368-1A909C5CAB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E971-8292-4CF8-AF17-8A056BDB49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0475-B075-428B-BAF9-673791EAB5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B476-BD4D-41A7-9FFF-6D26435363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8AF8-E63B-47A5-AB8D-EE82C1B935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CDE6-13EF-475E-81F0-5F66DA41FD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CDE9-48AC-448B-A473-48F908AC80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6D79-59DE-4289-A56F-67567D5241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0459-AD48-4A27-AC09-44FF46C815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7066-15CB-4499-BA5E-2ECA0FF036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E4C3-FA8D-42BF-AC55-B53639E5F3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3CE2-2F83-439D-BEB6-B97129E194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BAC7-FC3D-4387-8AEF-1AED6FCBAE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DEF4-78AD-48FA-8D4F-C1868F84C8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6CFF-DBE2-4A5D-97B6-F1906F5298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320C-684D-43FF-B8D7-BA48DAA224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8C6D-75AE-48D8-9AE7-657E911DB2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A0AA-2CA9-40DE-B735-932C4B38B6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544C-09C8-436D-BFA4-C8A7E4B03E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4328-60FA-43B5-95D7-4BB5CE75FE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4343-3608-460A-8816-6439505977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84A4-675B-43D9-B7E6-BD0CC9463E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82F8-19FC-49C3-9CE7-732129856F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852A-26CC-48D6-9754-E4981F5ABC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1846-9414-4CC0-B93A-3D7D6932B3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483A-538A-4AC7-BEDC-D5A1B4840D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190F-2E37-419F-BB74-DC931C7BB5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C0AF-A63D-4110-B71B-3A75BF3EE3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D866-6E3E-468A-88B0-25FB4A320C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514B-6BDE-4733-9C9C-D3D472450D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1F74-FE1D-47D2-8C7B-313D062E6A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2E6C-F6D1-4199-A746-1A2D564A7B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2DC6-DDB5-4751-9F7F-D79B390558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5C79-66DF-4E86-8DB6-C8C624BFEE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8C8C-4A58-40FB-9182-32F758B9B4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272F-9DA1-4565-B220-427DE02BAA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1852560" y="3081240"/>
            <a:ext cx="543888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4" name="图片 116737" descr=""/>
          <p:cNvPicPr/>
          <p:nvPr/>
        </p:nvPicPr>
        <p:blipFill>
          <a:blip r:embed="rId1"/>
          <a:stretch/>
        </p:blipFill>
        <p:spPr>
          <a:xfrm>
            <a:off x="571680" y="2138400"/>
            <a:ext cx="8001000" cy="2581200"/>
          </a:xfrm>
          <a:prstGeom prst="rect">
            <a:avLst/>
          </a:prstGeom>
          <a:ln w="0">
            <a:noFill/>
          </a:ln>
        </p:spPr>
      </p:pic>
      <p:sp>
        <p:nvSpPr>
          <p:cNvPr id="1485" name="矩形 116738"/>
          <p:cNvSpPr/>
          <p:nvPr/>
        </p:nvSpPr>
        <p:spPr>
          <a:xfrm>
            <a:off x="7829640" y="2168640"/>
            <a:ext cx="4284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图片 115713" descr=""/>
          <p:cNvPicPr/>
          <p:nvPr/>
        </p:nvPicPr>
        <p:blipFill>
          <a:blip r:embed="rId1"/>
          <a:stretch/>
        </p:blipFill>
        <p:spPr>
          <a:xfrm>
            <a:off x="566640" y="1319040"/>
            <a:ext cx="8010720" cy="4124520"/>
          </a:xfrm>
          <a:prstGeom prst="rect">
            <a:avLst/>
          </a:prstGeom>
          <a:ln w="0">
            <a:noFill/>
          </a:ln>
        </p:spPr>
      </p:pic>
      <p:sp>
        <p:nvSpPr>
          <p:cNvPr id="1487" name="矩形 115714"/>
          <p:cNvSpPr/>
          <p:nvPr/>
        </p:nvSpPr>
        <p:spPr>
          <a:xfrm>
            <a:off x="2867040" y="1835280"/>
            <a:ext cx="4287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115715"/>
          <p:cNvSpPr/>
          <p:nvPr/>
        </p:nvSpPr>
        <p:spPr>
          <a:xfrm>
            <a:off x="6516720" y="1849320"/>
            <a:ext cx="4287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115716"/>
          <p:cNvSpPr/>
          <p:nvPr/>
        </p:nvSpPr>
        <p:spPr>
          <a:xfrm>
            <a:off x="2824200" y="2378160"/>
            <a:ext cx="83808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115717"/>
          <p:cNvSpPr/>
          <p:nvPr/>
        </p:nvSpPr>
        <p:spPr>
          <a:xfrm>
            <a:off x="6823080" y="2382840"/>
            <a:ext cx="83808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115718"/>
          <p:cNvSpPr/>
          <p:nvPr/>
        </p:nvSpPr>
        <p:spPr>
          <a:xfrm>
            <a:off x="3492360" y="2890800"/>
            <a:ext cx="4287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2" name="图片 114689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020080" cy="5905440"/>
          </a:xfrm>
          <a:prstGeom prst="rect">
            <a:avLst/>
          </a:prstGeom>
          <a:ln w="0">
            <a:noFill/>
          </a:ln>
        </p:spPr>
      </p:pic>
      <p:sp>
        <p:nvSpPr>
          <p:cNvPr id="1493" name="矩形 114690"/>
          <p:cNvSpPr/>
          <p:nvPr/>
        </p:nvSpPr>
        <p:spPr>
          <a:xfrm>
            <a:off x="2333520" y="3483000"/>
            <a:ext cx="4287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14691"/>
          <p:cNvSpPr/>
          <p:nvPr/>
        </p:nvSpPr>
        <p:spPr>
          <a:xfrm>
            <a:off x="4643280" y="4005360"/>
            <a:ext cx="4287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114692"/>
          <p:cNvSpPr/>
          <p:nvPr/>
        </p:nvSpPr>
        <p:spPr>
          <a:xfrm>
            <a:off x="4427640" y="4546440"/>
            <a:ext cx="4284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114693"/>
          <p:cNvSpPr/>
          <p:nvPr/>
        </p:nvSpPr>
        <p:spPr>
          <a:xfrm>
            <a:off x="3924360" y="5070600"/>
            <a:ext cx="64764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114694"/>
          <p:cNvSpPr/>
          <p:nvPr/>
        </p:nvSpPr>
        <p:spPr>
          <a:xfrm>
            <a:off x="3986280" y="5632560"/>
            <a:ext cx="41623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矩形 114695"/>
          <p:cNvSpPr/>
          <p:nvPr/>
        </p:nvSpPr>
        <p:spPr>
          <a:xfrm>
            <a:off x="3986280" y="6165720"/>
            <a:ext cx="416232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9" name="图片 113665" descr=""/>
          <p:cNvPicPr/>
          <p:nvPr/>
        </p:nvPicPr>
        <p:blipFill>
          <a:blip r:embed="rId1"/>
          <a:stretch/>
        </p:blipFill>
        <p:spPr>
          <a:xfrm>
            <a:off x="880920" y="1652760"/>
            <a:ext cx="7382160" cy="3552480"/>
          </a:xfrm>
          <a:prstGeom prst="rect">
            <a:avLst/>
          </a:prstGeom>
          <a:ln w="0">
            <a:noFill/>
          </a:ln>
        </p:spPr>
      </p:pic>
      <p:sp>
        <p:nvSpPr>
          <p:cNvPr id="1500" name="矩形 113666"/>
          <p:cNvSpPr/>
          <p:nvPr/>
        </p:nvSpPr>
        <p:spPr>
          <a:xfrm>
            <a:off x="1990800" y="2205000"/>
            <a:ext cx="308592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矩形 113667"/>
          <p:cNvSpPr/>
          <p:nvPr/>
        </p:nvSpPr>
        <p:spPr>
          <a:xfrm>
            <a:off x="3038400" y="2940120"/>
            <a:ext cx="15336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矩形 113668"/>
          <p:cNvSpPr/>
          <p:nvPr/>
        </p:nvSpPr>
        <p:spPr>
          <a:xfrm>
            <a:off x="6300720" y="3471840"/>
            <a:ext cx="20289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矩形 113669"/>
          <p:cNvSpPr/>
          <p:nvPr/>
        </p:nvSpPr>
        <p:spPr>
          <a:xfrm>
            <a:off x="1403280" y="3963960"/>
            <a:ext cx="1143000" cy="596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矩形 113670"/>
          <p:cNvSpPr/>
          <p:nvPr/>
        </p:nvSpPr>
        <p:spPr>
          <a:xfrm>
            <a:off x="4859280" y="4168800"/>
            <a:ext cx="171468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矩形 113671"/>
          <p:cNvSpPr/>
          <p:nvPr/>
        </p:nvSpPr>
        <p:spPr>
          <a:xfrm>
            <a:off x="3276720" y="4724280"/>
            <a:ext cx="25527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8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3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8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3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6" name="图片 112641" descr=""/>
          <p:cNvPicPr/>
          <p:nvPr/>
        </p:nvPicPr>
        <p:blipFill>
          <a:blip r:embed="rId1"/>
          <a:stretch/>
        </p:blipFill>
        <p:spPr>
          <a:xfrm>
            <a:off x="861840" y="1852560"/>
            <a:ext cx="7420320" cy="3152880"/>
          </a:xfrm>
          <a:prstGeom prst="rect">
            <a:avLst/>
          </a:prstGeom>
          <a:ln w="0">
            <a:noFill/>
          </a:ln>
        </p:spPr>
      </p:pic>
      <p:sp>
        <p:nvSpPr>
          <p:cNvPr id="1507" name="矩形 112642"/>
          <p:cNvSpPr/>
          <p:nvPr/>
        </p:nvSpPr>
        <p:spPr>
          <a:xfrm>
            <a:off x="4124160" y="3483000"/>
            <a:ext cx="7718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矩形 112643"/>
          <p:cNvSpPr/>
          <p:nvPr/>
        </p:nvSpPr>
        <p:spPr>
          <a:xfrm>
            <a:off x="5508720" y="4048200"/>
            <a:ext cx="77148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0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5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9" name="图片 111617" descr=""/>
          <p:cNvPicPr/>
          <p:nvPr/>
        </p:nvPicPr>
        <p:blipFill>
          <a:blip r:embed="rId1"/>
          <a:stretch/>
        </p:blipFill>
        <p:spPr>
          <a:xfrm>
            <a:off x="438120" y="781200"/>
            <a:ext cx="3905280" cy="971280"/>
          </a:xfrm>
          <a:prstGeom prst="rect">
            <a:avLst/>
          </a:prstGeom>
          <a:ln w="0">
            <a:noFill/>
          </a:ln>
        </p:spPr>
      </p:pic>
      <p:pic>
        <p:nvPicPr>
          <p:cNvPr id="1510" name="图片 111618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7543800" cy="1200240"/>
          </a:xfrm>
          <a:prstGeom prst="rect">
            <a:avLst/>
          </a:prstGeom>
          <a:ln w="0">
            <a:noFill/>
          </a:ln>
        </p:spPr>
      </p:pic>
      <p:pic>
        <p:nvPicPr>
          <p:cNvPr id="1511" name="图片 111619" descr=""/>
          <p:cNvPicPr/>
          <p:nvPr/>
        </p:nvPicPr>
        <p:blipFill>
          <a:blip r:embed="rId3"/>
          <a:stretch/>
        </p:blipFill>
        <p:spPr>
          <a:xfrm>
            <a:off x="520560" y="3195720"/>
            <a:ext cx="7524720" cy="1361880"/>
          </a:xfrm>
          <a:prstGeom prst="rect">
            <a:avLst/>
          </a:prstGeom>
          <a:ln w="0">
            <a:noFill/>
          </a:ln>
        </p:spPr>
      </p:pic>
      <p:sp>
        <p:nvSpPr>
          <p:cNvPr id="1512" name="矩形 111620"/>
          <p:cNvSpPr/>
          <p:nvPr/>
        </p:nvSpPr>
        <p:spPr>
          <a:xfrm>
            <a:off x="4619520" y="2406600"/>
            <a:ext cx="263844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矩形 111621"/>
          <p:cNvSpPr/>
          <p:nvPr/>
        </p:nvSpPr>
        <p:spPr>
          <a:xfrm>
            <a:off x="4500720" y="3222720"/>
            <a:ext cx="34002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矩形 111622"/>
          <p:cNvSpPr/>
          <p:nvPr/>
        </p:nvSpPr>
        <p:spPr>
          <a:xfrm>
            <a:off x="4384800" y="3929040"/>
            <a:ext cx="34002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2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7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2" dur="1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124930" descr=""/>
          <p:cNvPicPr/>
          <p:nvPr/>
        </p:nvPicPr>
        <p:blipFill>
          <a:blip r:embed="rId1"/>
          <a:stretch/>
        </p:blipFill>
        <p:spPr>
          <a:xfrm>
            <a:off x="480960" y="735120"/>
            <a:ext cx="8267760" cy="5972040"/>
          </a:xfrm>
          <a:prstGeom prst="rect">
            <a:avLst/>
          </a:prstGeom>
          <a:ln w="0">
            <a:noFill/>
          </a:ln>
        </p:spPr>
      </p:pic>
      <p:sp>
        <p:nvSpPr>
          <p:cNvPr id="1434" name="矩形 124931"/>
          <p:cNvSpPr/>
          <p:nvPr/>
        </p:nvSpPr>
        <p:spPr>
          <a:xfrm>
            <a:off x="2581200" y="1797120"/>
            <a:ext cx="36216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矩形 124932"/>
          <p:cNvSpPr/>
          <p:nvPr/>
        </p:nvSpPr>
        <p:spPr>
          <a:xfrm>
            <a:off x="3780000" y="1773360"/>
            <a:ext cx="36180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124933"/>
          <p:cNvSpPr/>
          <p:nvPr/>
        </p:nvSpPr>
        <p:spPr>
          <a:xfrm>
            <a:off x="4859280" y="1782720"/>
            <a:ext cx="74304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4"/>
          <p:cNvSpPr/>
          <p:nvPr/>
        </p:nvSpPr>
        <p:spPr>
          <a:xfrm>
            <a:off x="1403280" y="2133720"/>
            <a:ext cx="36216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4935"/>
          <p:cNvSpPr/>
          <p:nvPr/>
        </p:nvSpPr>
        <p:spPr>
          <a:xfrm>
            <a:off x="6227640" y="2522520"/>
            <a:ext cx="2076480" cy="3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4936"/>
          <p:cNvSpPr/>
          <p:nvPr/>
        </p:nvSpPr>
        <p:spPr>
          <a:xfrm>
            <a:off x="5796000" y="3367080"/>
            <a:ext cx="36180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4937"/>
          <p:cNvSpPr/>
          <p:nvPr/>
        </p:nvSpPr>
        <p:spPr>
          <a:xfrm>
            <a:off x="2411280" y="3716280"/>
            <a:ext cx="36216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4938"/>
          <p:cNvSpPr/>
          <p:nvPr/>
        </p:nvSpPr>
        <p:spPr>
          <a:xfrm>
            <a:off x="4716360" y="3726000"/>
            <a:ext cx="53352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4939"/>
          <p:cNvSpPr/>
          <p:nvPr/>
        </p:nvSpPr>
        <p:spPr>
          <a:xfrm>
            <a:off x="3708360" y="4097160"/>
            <a:ext cx="204804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4940"/>
          <p:cNvSpPr/>
          <p:nvPr/>
        </p:nvSpPr>
        <p:spPr>
          <a:xfrm>
            <a:off x="6227640" y="4581360"/>
            <a:ext cx="71460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124941"/>
          <p:cNvSpPr/>
          <p:nvPr/>
        </p:nvSpPr>
        <p:spPr>
          <a:xfrm>
            <a:off x="7667640" y="4581360"/>
            <a:ext cx="82872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124942"/>
          <p:cNvSpPr/>
          <p:nvPr/>
        </p:nvSpPr>
        <p:spPr>
          <a:xfrm>
            <a:off x="1187280" y="5686560"/>
            <a:ext cx="71460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124943"/>
          <p:cNvSpPr/>
          <p:nvPr/>
        </p:nvSpPr>
        <p:spPr>
          <a:xfrm>
            <a:off x="3780000" y="5680080"/>
            <a:ext cx="96192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24944"/>
          <p:cNvSpPr/>
          <p:nvPr/>
        </p:nvSpPr>
        <p:spPr>
          <a:xfrm>
            <a:off x="6526080" y="5689440"/>
            <a:ext cx="71460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矩形 124945"/>
          <p:cNvSpPr/>
          <p:nvPr/>
        </p:nvSpPr>
        <p:spPr>
          <a:xfrm>
            <a:off x="749160" y="6049800"/>
            <a:ext cx="115884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124946"/>
          <p:cNvSpPr/>
          <p:nvPr/>
        </p:nvSpPr>
        <p:spPr>
          <a:xfrm>
            <a:off x="3348000" y="6049800"/>
            <a:ext cx="36216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124947"/>
          <p:cNvSpPr/>
          <p:nvPr/>
        </p:nvSpPr>
        <p:spPr>
          <a:xfrm>
            <a:off x="8172360" y="6054840"/>
            <a:ext cx="36216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图片 123906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277120" cy="5715000"/>
          </a:xfrm>
          <a:prstGeom prst="rect">
            <a:avLst/>
          </a:prstGeom>
          <a:ln w="0">
            <a:noFill/>
          </a:ln>
        </p:spPr>
      </p:pic>
      <p:sp>
        <p:nvSpPr>
          <p:cNvPr id="1452" name="矩形 123907"/>
          <p:cNvSpPr/>
          <p:nvPr/>
        </p:nvSpPr>
        <p:spPr>
          <a:xfrm>
            <a:off x="6524640" y="2158920"/>
            <a:ext cx="36180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图片 122881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362800" cy="4038480"/>
          </a:xfrm>
          <a:prstGeom prst="rect">
            <a:avLst/>
          </a:prstGeom>
          <a:ln w="0">
            <a:noFill/>
          </a:ln>
        </p:spPr>
      </p:pic>
      <p:sp>
        <p:nvSpPr>
          <p:cNvPr id="1454" name="矩形 122883"/>
          <p:cNvSpPr/>
          <p:nvPr/>
        </p:nvSpPr>
        <p:spPr>
          <a:xfrm>
            <a:off x="4286160" y="1035000"/>
            <a:ext cx="240984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矩形 122884"/>
          <p:cNvSpPr/>
          <p:nvPr/>
        </p:nvSpPr>
        <p:spPr>
          <a:xfrm>
            <a:off x="3564000" y="1413000"/>
            <a:ext cx="141912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122885"/>
          <p:cNvSpPr/>
          <p:nvPr/>
        </p:nvSpPr>
        <p:spPr>
          <a:xfrm>
            <a:off x="7912080" y="1413000"/>
            <a:ext cx="74304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122886"/>
          <p:cNvSpPr/>
          <p:nvPr/>
        </p:nvSpPr>
        <p:spPr>
          <a:xfrm>
            <a:off x="1249200" y="2146320"/>
            <a:ext cx="74304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矩形 122887"/>
          <p:cNvSpPr/>
          <p:nvPr/>
        </p:nvSpPr>
        <p:spPr>
          <a:xfrm>
            <a:off x="6227640" y="2133720"/>
            <a:ext cx="74304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122888"/>
          <p:cNvSpPr/>
          <p:nvPr/>
        </p:nvSpPr>
        <p:spPr>
          <a:xfrm>
            <a:off x="4640400" y="2871720"/>
            <a:ext cx="271440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122889"/>
          <p:cNvSpPr/>
          <p:nvPr/>
        </p:nvSpPr>
        <p:spPr>
          <a:xfrm>
            <a:off x="1096920" y="3246480"/>
            <a:ext cx="339084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122890"/>
          <p:cNvSpPr/>
          <p:nvPr/>
        </p:nvSpPr>
        <p:spPr>
          <a:xfrm>
            <a:off x="4178160" y="4356000"/>
            <a:ext cx="313056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22891"/>
          <p:cNvSpPr/>
          <p:nvPr/>
        </p:nvSpPr>
        <p:spPr>
          <a:xfrm>
            <a:off x="1042920" y="4724280"/>
            <a:ext cx="246384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121857" descr=""/>
          <p:cNvPicPr/>
          <p:nvPr/>
        </p:nvPicPr>
        <p:blipFill>
          <a:blip r:embed="rId1"/>
          <a:stretch/>
        </p:blipFill>
        <p:spPr>
          <a:xfrm>
            <a:off x="747720" y="1333440"/>
            <a:ext cx="7648560" cy="4191120"/>
          </a:xfrm>
          <a:prstGeom prst="rect">
            <a:avLst/>
          </a:prstGeom>
          <a:ln w="0">
            <a:noFill/>
          </a:ln>
        </p:spPr>
      </p:pic>
      <p:sp>
        <p:nvSpPr>
          <p:cNvPr id="1464" name="矩形 121858"/>
          <p:cNvSpPr/>
          <p:nvPr/>
        </p:nvSpPr>
        <p:spPr>
          <a:xfrm>
            <a:off x="4305240" y="1863720"/>
            <a:ext cx="4287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121859"/>
          <p:cNvSpPr/>
          <p:nvPr/>
        </p:nvSpPr>
        <p:spPr>
          <a:xfrm>
            <a:off x="6300720" y="2421000"/>
            <a:ext cx="16099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121860"/>
          <p:cNvSpPr/>
          <p:nvPr/>
        </p:nvSpPr>
        <p:spPr>
          <a:xfrm>
            <a:off x="4643280" y="2924280"/>
            <a:ext cx="348624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121861"/>
          <p:cNvSpPr/>
          <p:nvPr/>
        </p:nvSpPr>
        <p:spPr>
          <a:xfrm>
            <a:off x="1258920" y="3457440"/>
            <a:ext cx="573408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121862"/>
          <p:cNvSpPr/>
          <p:nvPr/>
        </p:nvSpPr>
        <p:spPr>
          <a:xfrm>
            <a:off x="7956720" y="4005360"/>
            <a:ext cx="4284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121863"/>
          <p:cNvSpPr/>
          <p:nvPr/>
        </p:nvSpPr>
        <p:spPr>
          <a:xfrm>
            <a:off x="1258920" y="4527720"/>
            <a:ext cx="704844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21864"/>
          <p:cNvSpPr/>
          <p:nvPr/>
        </p:nvSpPr>
        <p:spPr>
          <a:xfrm>
            <a:off x="1258920" y="5084640"/>
            <a:ext cx="18954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图片 120833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01000" cy="5705640"/>
          </a:xfrm>
          <a:prstGeom prst="rect">
            <a:avLst/>
          </a:prstGeom>
          <a:ln w="0">
            <a:noFill/>
          </a:ln>
        </p:spPr>
      </p:pic>
      <p:sp>
        <p:nvSpPr>
          <p:cNvPr id="1472" name="矩形 120834"/>
          <p:cNvSpPr/>
          <p:nvPr/>
        </p:nvSpPr>
        <p:spPr>
          <a:xfrm>
            <a:off x="7740720" y="1413000"/>
            <a:ext cx="4284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120835"/>
          <p:cNvSpPr/>
          <p:nvPr/>
        </p:nvSpPr>
        <p:spPr>
          <a:xfrm>
            <a:off x="4140360" y="4941720"/>
            <a:ext cx="4284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120836"/>
          <p:cNvSpPr/>
          <p:nvPr/>
        </p:nvSpPr>
        <p:spPr>
          <a:xfrm>
            <a:off x="4427640" y="5506920"/>
            <a:ext cx="7239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120837"/>
          <p:cNvSpPr/>
          <p:nvPr/>
        </p:nvSpPr>
        <p:spPr>
          <a:xfrm>
            <a:off x="1763640" y="6021360"/>
            <a:ext cx="7239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120838"/>
          <p:cNvSpPr/>
          <p:nvPr/>
        </p:nvSpPr>
        <p:spPr>
          <a:xfrm>
            <a:off x="6227640" y="6021360"/>
            <a:ext cx="7239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7" name="图片 119809" descr=""/>
          <p:cNvPicPr/>
          <p:nvPr/>
        </p:nvPicPr>
        <p:blipFill>
          <a:blip r:embed="rId1"/>
          <a:stretch/>
        </p:blipFill>
        <p:spPr>
          <a:xfrm>
            <a:off x="571680" y="2100240"/>
            <a:ext cx="8001000" cy="2657520"/>
          </a:xfrm>
          <a:prstGeom prst="rect">
            <a:avLst/>
          </a:prstGeom>
          <a:ln w="0">
            <a:noFill/>
          </a:ln>
        </p:spPr>
      </p:pic>
      <p:sp>
        <p:nvSpPr>
          <p:cNvPr id="1478" name="矩形 119810"/>
          <p:cNvSpPr/>
          <p:nvPr/>
        </p:nvSpPr>
        <p:spPr>
          <a:xfrm>
            <a:off x="7829640" y="3311640"/>
            <a:ext cx="4284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图片 118785" descr=""/>
          <p:cNvPicPr/>
          <p:nvPr/>
        </p:nvPicPr>
        <p:blipFill>
          <a:blip r:embed="rId1"/>
          <a:stretch/>
        </p:blipFill>
        <p:spPr>
          <a:xfrm>
            <a:off x="581040" y="1338120"/>
            <a:ext cx="7981920" cy="4181760"/>
          </a:xfrm>
          <a:prstGeom prst="rect">
            <a:avLst/>
          </a:prstGeom>
          <a:ln w="0">
            <a:noFill/>
          </a:ln>
        </p:spPr>
      </p:pic>
      <p:sp>
        <p:nvSpPr>
          <p:cNvPr id="1480" name="矩形 118786"/>
          <p:cNvSpPr/>
          <p:nvPr/>
        </p:nvSpPr>
        <p:spPr>
          <a:xfrm>
            <a:off x="7705800" y="1873080"/>
            <a:ext cx="4284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1" name="图片 117761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7953480" cy="3686400"/>
          </a:xfrm>
          <a:prstGeom prst="rect">
            <a:avLst/>
          </a:prstGeom>
          <a:ln w="0">
            <a:noFill/>
          </a:ln>
        </p:spPr>
      </p:pic>
      <p:pic>
        <p:nvPicPr>
          <p:cNvPr id="1482" name="图片 117762" descr=""/>
          <p:cNvPicPr/>
          <p:nvPr/>
        </p:nvPicPr>
        <p:blipFill>
          <a:blip r:embed="rId2"/>
          <a:stretch/>
        </p:blipFill>
        <p:spPr>
          <a:xfrm>
            <a:off x="1128600" y="4721400"/>
            <a:ext cx="7382160" cy="923760"/>
          </a:xfrm>
          <a:prstGeom prst="rect">
            <a:avLst/>
          </a:prstGeom>
          <a:ln w="0">
            <a:noFill/>
          </a:ln>
        </p:spPr>
      </p:pic>
      <p:sp>
        <p:nvSpPr>
          <p:cNvPr id="1483" name="矩形 117763"/>
          <p:cNvSpPr/>
          <p:nvPr/>
        </p:nvSpPr>
        <p:spPr>
          <a:xfrm>
            <a:off x="7740720" y="1484280"/>
            <a:ext cx="4284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14:19Z</dcterms:modified>
  <cp:revision>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